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31428-F6CD-4B75-B74B-426D803ED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3C574-BED2-4530-9A32-B32FBFB61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mmunication meant I could brief a lawy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y only way out of the institution was to go to the Supreme Court and seek a writ of Habeas Corp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abeas corpus is rarely invoked.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e medical profession was being challenged by an ancient and honourable legal process designed to protect people from incarceration by their rul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e shit hit the fan big-ti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0229F-B018-4A5E-81CB-5F21E7F3B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27E2D-0554-4360-8ED9-0E03DDC04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hen the media asked me for a comment on my release I said “Help the others.”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irty years later, children still suffer under the same false assumption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y ongoing concern is the readiness with which Ashl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 parents, doctors and most commentators assumed that they could make an accurate estimation of the understanding of a child without speech who has severely restricted movement.  Any assessment of intelligence which relies on speech and motor skills cannot conceivably be accurate because the child doesn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’t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have any of the skills required to undertake testing.  To equate intelligence with motor skills is as absurd as equating it with height. Which I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ve also had to endu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5E14D-0AED-4148-A7A5-923726507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only possible way to find out how much a child who cannot talk actually understands is to develop an alternative means of communication for that child.  An entire new discipline of non-speech communication has developed since I was born in 1961, and there are now literally hundreds of non-speech communication strategies available.  Once communication is established, education and assessment can follow, in the usual w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612B7-6248-4B6C-883D-F559EA41C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No child should be presumed to be profoundly retarded because they 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 talk.  All children who 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 talk should be given access to communication therapy before any judgements are made about their intelligen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88B76-7163-4C58-BDC7-9E7D5C775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or Margie - when she carri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 out of the Supreme Cour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was totally inaccessibl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e didn’t expect to find hersel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front page of the pap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identally, she was only a few years older than 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EAD70-56A4-4D6E-BDEC-2FFC76B86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y lawyers arranged for me to be given two tests which helped me to win the right to leave St. Nicholas and manage my own affai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AIS - Wechsler Adult Intelligence Scale - I did with arm suppor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PVT - Peabody Picture Vocabulary Test - I did without suppo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th tests were still totally unsuitable for someone like me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ut luckily I got a score in the average range on them bot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I hadn’t, I probably wouldn’t be here to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911E9-CA53-4495-8A1A-B774F0F60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’s what the papers sa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881B4-048F-4291-967A-20C84A44A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2CCB9-B57E-456E-B6A2-274C8B346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rst day of the rest of my lif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is and I have both aged a bit since this photo was taken in May 197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see why it was very hard for people to see me as a competent adul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14461-8A53-4AEB-9844-467093DD0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my release from St. Nicholas some things changed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50306-8A3C-41CB-AAF5-34FDE1C17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 was admitted to St. Nicholas on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y it opened in 1964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 was 3 years old and weighed 12.1 kil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twenty-seven pounds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the next thirteen years I w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atically star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 the age of 16 I weighed 12.7 kil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twenty-eight pounds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3F717-4744-4C91-AB5F-8B6C67E32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height followed the same patter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C6C-8D9F-4C76-9706-14CA9EE8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8A21-FF85-4303-AA75-C5F45138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64D-D9B9-47CA-93FB-67F78323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193-3F78-41D7-9503-14689760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2B6A-3AC1-4D8A-83A6-1D6889A5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F24-71F7-4D0F-8DC8-DCE88F77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862-9C15-4462-8869-17ED9836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D2F1-B1C1-4B12-A04D-DB620A1F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B67-8139-4173-ADD2-6573C61F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F4A-47AE-4E7F-AB64-4DA3D516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4746-3491-4966-B646-D1C90E4C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8AF-307C-47C3-B401-6E73DE30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B578E-2CEE-4F00-B94D-E1A867EE0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F0C57-3F16-473F-9675-E40CE7CD16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1752480" y="22096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03200" y="52560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62120" y="1066680"/>
            <a:ext cx="7619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mmunication meant I could brief a lawy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y only way out of the institution was to go to the Supreme Court and seek a writ of Habeas Corp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abeas corpus is rarely invoked.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medical profession was being challenged by an ancient and honourable legal process designed to protect people from incarceration by their rul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shit hit the fan big-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7584280" y="2209680"/>
            <a:ext cx="403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9549880" y="1666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587680" y="14436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9625840" y="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9778480" y="3952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7492480" y="2147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7508320" y="2209680"/>
            <a:ext cx="45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7432000" y="2362320"/>
            <a:ext cx="6094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0BAEE-43DA-468D-9BD4-9FCF17DF82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352680" y="419040"/>
            <a:ext cx="4011840" cy="6018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689400" y="4815000"/>
            <a:ext cx="137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.Hum.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eakin 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FB5F3-7D4D-477A-A446-B10675B1B8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754200" y="2209680"/>
            <a:ext cx="763560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media asked me for a comment on my release I said</a:t>
            </a:r>
            <a:r>
              <a:rPr b="0" i="1" lang="en-US" sz="3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900" spc="-1" strike="noStrike">
                <a:solidFill>
                  <a:srgbClr val="000000"/>
                </a:solidFill>
                <a:latin typeface="Calibri"/>
              </a:rPr>
              <a:t>Help the others.”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ty years later, many children without speech still suffer under the same false assump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849960" y="685800"/>
            <a:ext cx="535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some things stayed the sam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1C71B-4425-4AA3-B851-34CEEB969A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495360" y="685800"/>
            <a:ext cx="815328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only possible way to find ou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w much a child who cannot tal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ctually understan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s to develop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 alternative means of communic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or that child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95407-AFAD-4CFA-B746-79769F72A7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471600" y="512640"/>
            <a:ext cx="819936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o child should be presumed to be profoundly retarded because they ca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 talk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ll children who ca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 talk should be given access to communication therapy before any judgements are made about their intelligence.</a:t>
            </a:r>
            <a:r>
              <a:rPr b="0" lang="en-AU" sz="4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0EBAC-4953-4107-A3A9-BA77BA3852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1752480" y="22096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572000" y="152280"/>
            <a:ext cx="311292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692840" y="4952880"/>
            <a:ext cx="14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.5.197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g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04920" y="2286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80440" y="380880"/>
            <a:ext cx="417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or Margie - when she carri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 out of the Supreme Cour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e didn’t expect to find hersel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front page of the pap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B6A81-4A08-405E-B9CF-A75B7E91FB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1268280" y="1009800"/>
            <a:ext cx="66074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lawyers arranged for me to be given two tests which helped me to win the right to leave St. Nicholas and manage my own affai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IS - Wechsler Adult Intelligence Scale - I did with arm suppor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PVT - Peabody Picture Vocabulary Test - I did without suppo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th tests were totally unsuitable for someone like me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ut luckily I got a score in the average range on them bot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I hadn’t, I probably wouldn’t be here to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05F40-98FE-4B65-B8C2-13045DE940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 rot="16200000">
            <a:off x="2293920" y="449280"/>
            <a:ext cx="6324480" cy="60357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15280" y="520560"/>
            <a:ext cx="19821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un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18, 197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A0768-8DA5-4A6B-9D7A-D8FD0F449F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 rot="16200000">
            <a:off x="1271520" y="-405000"/>
            <a:ext cx="6524640" cy="7848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73" name="Rectangle 5"/>
          <p:cNvSpPr/>
          <p:nvPr/>
        </p:nvSpPr>
        <p:spPr>
          <a:xfrm>
            <a:off x="4572000" y="3429000"/>
            <a:ext cx="373392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29C98-D0D6-49EC-8D9A-1D86524B0E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4552920" cy="6019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304920" y="762120"/>
            <a:ext cx="266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rst day of the rest of my lif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anks to </a:t>
            </a:r>
            <a:r>
              <a:rPr b="1" lang="en-US" sz="2400" spc="-1" strike="noStrike">
                <a:solidFill>
                  <a:srgbClr val="000000"/>
                </a:solidFill>
                <a:latin typeface="Skia"/>
              </a:rPr>
              <a:t>Communicatio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AB719-06EC-4EAA-9DE2-AE33E0A05C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983600" y="1752480"/>
            <a:ext cx="517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my release from St. Nichol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things changed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318F2-49AE-46AB-A09B-3BA4BEB4DA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752480" y="22096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Object 3"/>
          <p:cNvGraphicFramePr/>
          <p:nvPr/>
        </p:nvGraphicFramePr>
        <p:xfrm>
          <a:off x="228600" y="609480"/>
          <a:ext cx="8915400" cy="574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8915400" cy="57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4"/>
          <p:cNvSpPr/>
          <p:nvPr/>
        </p:nvSpPr>
        <p:spPr>
          <a:xfrm>
            <a:off x="7772400" y="6019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09880" y="1012680"/>
            <a:ext cx="4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00AD3-A4C6-4ED4-B71A-CB1C7320FB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1752480" y="22096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380880" y="711360"/>
          <a:ext cx="8763120" cy="568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11360"/>
                    <a:ext cx="8763120" cy="56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05:15:01Z</dcterms:created>
  <dc:creator>Chris Borthwick</dc:creator>
  <dc:description/>
  <dc:language>en-US</dc:language>
  <cp:lastModifiedBy>Chris Borthwick</cp:lastModifiedBy>
  <dcterms:modified xsi:type="dcterms:W3CDTF">2013-10-20T05:41:18Z</dcterms:modified>
  <cp:revision>6</cp:revision>
  <dc:subject/>
  <dc:title>PowerPoint Presentation</dc:title>
</cp:coreProperties>
</file>